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159-4D99-444F-8063-97D55AA7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827-CF21-4BE6-A446-A9727ED2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71BE-2606-4D5E-96B3-C11FFD99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CAB-E243-4DB1-BC38-37ECBBC0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DA3-62DE-41ED-80AF-396EE48B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E4C-0F73-4504-9970-8631D8E6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279-D1A2-471A-A261-806E9FC7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08B-8210-4CD6-AEB0-CEDB086F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501-F005-4ED0-B442-F9156C49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023-7343-487E-9312-5D19CF95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190-AC66-449F-BE6F-F003C696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B3B-BCF9-4A8F-AF8C-2F68184D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6821-9DDD-4B8C-83D3-2B0641103CA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5445000"/>
            <a:ext cx="6913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c00000"/>
                </a:solidFill>
                <a:latin typeface="Comic Sans MS"/>
              </a:rPr>
              <a:t>Preschool Les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ittle einsteins theme song.mp3" descr=""/>
          <p:cNvPicPr/>
          <p:nvPr/>
        </p:nvPicPr>
        <p:blipFill>
          <a:blip r:embed="rId2"/>
          <a:stretch/>
        </p:blipFill>
        <p:spPr>
          <a:xfrm>
            <a:off x="755640" y="5589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Re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www.google.com.ph/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www.thinkexist.com/quotations/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Comic Sans MS"/>
              </a:rPr>
              <a:t>NUMB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1. to distinguish the numbers and their corresponding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2. To be able to help the children learn how to count numbers from 1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3. to be able to help children count on thei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7" descr=""/>
          <p:cNvPicPr/>
          <p:nvPr/>
        </p:nvPicPr>
        <p:blipFill>
          <a:blip r:embed="rId1"/>
          <a:stretch/>
        </p:blipFill>
        <p:spPr>
          <a:xfrm>
            <a:off x="1219320" y="730080"/>
            <a:ext cx="2895480" cy="396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5486400" y="695160"/>
            <a:ext cx="2901960" cy="3997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7" descr=""/>
          <p:cNvPicPr/>
          <p:nvPr/>
        </p:nvPicPr>
        <p:blipFill>
          <a:blip r:embed="rId1"/>
          <a:stretch/>
        </p:blipFill>
        <p:spPr>
          <a:xfrm>
            <a:off x="324000" y="204804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481040" y="1866960"/>
            <a:ext cx="266724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5802480" y="1700280"/>
            <a:ext cx="2238120" cy="2047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"/>
          <p:cNvPicPr/>
          <p:nvPr/>
        </p:nvPicPr>
        <p:blipFill>
          <a:blip r:embed="rId1"/>
          <a:stretch/>
        </p:blipFill>
        <p:spPr>
          <a:xfrm>
            <a:off x="900000" y="1133640"/>
            <a:ext cx="3505320" cy="340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5624640" y="981000"/>
            <a:ext cx="253368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"/>
          <p:cNvPicPr/>
          <p:nvPr/>
        </p:nvPicPr>
        <p:blipFill>
          <a:blip r:embed="rId1"/>
          <a:stretch/>
        </p:blipFill>
        <p:spPr>
          <a:xfrm>
            <a:off x="930240" y="1057320"/>
            <a:ext cx="2743200" cy="353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587840" y="371520"/>
            <a:ext cx="3610080" cy="4630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557520" cy="3009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4878360" y="747720"/>
            <a:ext cx="3809880" cy="3828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hildren are the most valuable resource and its best for future.” – John Fitzgerald Kenn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fet</cp:lastModifiedBy>
  <dcterms:modified xsi:type="dcterms:W3CDTF">2012-10-01T16:27:14Z</dcterms:modified>
  <cp:revision>722</cp:revision>
  <dc:subject/>
  <dc:title>Diapositiva 1</dc:title>
</cp:coreProperties>
</file>